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856E-C216-400A-AA39-4EC95BAC4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1B3C-9667-431A-B4DA-57FC191F1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4173-14E4-408D-9BFA-52711C46B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7026-0B80-4D4B-A726-2141E0E14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1718-03C6-42D9-B691-738B314BC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68AE-D8B1-43D0-B7EA-1ED5DFF76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1710-CDBE-4962-A9E0-D809849E9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2340-29E0-49D1-A1BC-04C4BF380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6515-E0D0-4CD3-8267-F74C13B6E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4693-CE02-41A1-8196-3C7FC95E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831F-6458-4A6E-8432-916CCA0D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4405-9C37-4154-98F9-52AFF8E2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396EB-BF7D-4E52-94DF-3A5D3CAA292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7 – Invasion and Conques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hua 3 – cross Jord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hua 5 – circumcision; manna st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hua 6 – Jerich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hua 7-8 – 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hua 9 – Gibeon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7 – Invasion and Conques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ntral-southern-northern campaig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hua 13:7 divide the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hua 21:43 </a:t>
            </a:r>
            <a:r>
              <a:rPr b="1" i="1" lang="en-US" sz="3200" spc="-1" strike="noStrike">
                <a:solidFill>
                  <a:srgbClr val="ff9900"/>
                </a:solidFill>
                <a:latin typeface="Arial"/>
              </a:rPr>
              <a:t>land promise fulfill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hua 24:29 Joshua d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8 – Judg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5 judges – Rebellion, Repression, Repentance, Resc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:  Gideon and 300 men; Jephthah and daughter; Samson, Eli and wicked sons; Samu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Sam 8 – we want a king; Saul anoin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ted 350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9 – United Kingdom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ul – 1040–1000 B.C.; 1 Sam 15 – Amalek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id – 1000-960 B.C.; preparation for the temple; 2 Sam 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omon – 960-920(921) B.C.; temple began in 956 B.C.; wisdom, wives, id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0 – Divided Kingdom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21-721 B.C. – 200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rael – north – Jereboam – 10 tribes; calves at Dan and Beth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good kings; fell to Assyria in 721 B.C.—gone fore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dah – south – Rehoboam – 2 trib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use of David  (2 Sam 7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zekiah king when Israel f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1 – Judah Alon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21-586 B.C. – 135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asseh evil king for 55 years; ultimate downfall of 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iah – 31 good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rusalem fell to Babylon (Nebuchadnezzar) in 586 B.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2 – Captivit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06-536 B.C. – 70 years (overla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06/605 B.C. first captivities taken; Daniel (image of Dan 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97 B.C. second captivities taken; Ezeki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86 B.C. Jerusalem fell; 2 Kings 25:21; Judah carried away cap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3 – Return from Captivit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36 B.C. – first return; decree of Cyrus king of Persia (Ezra 1: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79 B.C. –  Es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58 B.C. – Ezra – restored wo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45-443 B.C. – Nehemiah  (Neh 2:1, 13:6) – rebuilt walls  (52 day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3 – Return from Captivit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erubbabel – built temple (not like Solomon’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lachi ends 443/432 B.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4 – Years of Silenc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inder of image of Daniel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31 B.C. – Persia f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34-323 B.C. – Alexander the Gre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3 B.C. – Rome took Palest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7 B.C. – Herod made king of Jud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 B.C. – Herod’s temple beg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uke 1 – silence bro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Periods of Bible History</a:t>
            </a:r>
            <a:endParaRPr b="0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4 – Years of Silenc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00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roximately 100 years e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o-Persians still in po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exander  (Greek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cabeean Revo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ginning of Roman Emp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5 – Life of Chris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ars of prepa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ginning of Mini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 Galilean Mini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iods of Retir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e of Mini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t W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rrection and Exal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Arial"/>
              </a:rPr>
              <a:t>Seed promise fulfill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6 – Early Church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s 2 – first gospel sermon; church established  (spiritual n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s 8 – Samaritans hear gosp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s 10 – Cornelius, first Gentile con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s 13ff - Paul and Barnabas; gospel to Asia Minor, Greece, R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7 – Letters to the Christia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ul, Peter, James, Jude, Joh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 – Before the Flood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sis 1 – cre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sis 2 – Adam and Eve in the gar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sis 3 – first si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(Gen 3:15 – first promise of Se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sis 4 – Cain and Ab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sis 5 – generations of Ad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 – Flood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sis 6 – wickedness; ark bui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sis 7 – flood beg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sis 8 – waters rece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sis 9 – meat for food, capital punishment, rainbow promise, Noah’s s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 – Scattering of the Peopl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sis 11 – Plain of Shinar; Tower of Babel; confused langu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 – Patriarch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ther rul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-5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raham, Isaac, Jacob (Israe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 12:1-3,7  promises to Abraham—Nation, Land, Seed  (Acts 3:25-2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 sons; Joseph sold into Egypt; famine; family (70) moved to Egy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5 – Exodu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00 years have passed; Pharaoh arose who did not know Joseph; made sla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es—plagues; #10 death of firstborn; cross Red Sea; travel to Mt Sinai; man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venant, Law, Priesthood, Tabernacle; </a:t>
            </a:r>
            <a:r>
              <a:rPr b="1" i="1" lang="en-US" sz="3200" spc="-1" strike="noStrike">
                <a:solidFill>
                  <a:srgbClr val="ff9900"/>
                </a:solidFill>
                <a:latin typeface="Arial"/>
              </a:rPr>
              <a:t>nation promise fulfill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; spies sent from Kadesh-Barn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6 – Wanderings in the Wildernes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 14:33 sentenced to wander forty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s 16 – Korah, Dathan, and Abiram reb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s 20 – Miriam dies; sin of Moses “must we bring water”; Edom refuses passage; Aaron d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6 – Wanderings in the Wildernes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s 21 – bronze serpent  (John 3:1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s 22 – Balaam and Bar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s 26 – second census; all over 20 years old had died except Joshua and Cale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s 27 – Joshua appoin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uteronomy 34 –  Moses dies; ready to enter the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8T01:39:57Z</dcterms:created>
  <dc:creator>Wayne Holt</dc:creator>
  <dc:description/>
  <dc:language>en-US</dc:language>
  <cp:lastModifiedBy>Wayne Holt</cp:lastModifiedBy>
  <dcterms:modified xsi:type="dcterms:W3CDTF">2003-08-09T21:32:15Z</dcterms:modified>
  <cp:revision>7</cp:revision>
  <dc:subject/>
  <dc:title>1 – Before the Flood</dc:title>
</cp:coreProperties>
</file>