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0D6-4C80-4719-A442-36B00EC4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BBF-CC1D-408B-9713-0685E9E5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3C7-ED70-4FAE-8C71-01BFC3EA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947-9FD4-4F84-9E04-AF426A1E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A5A-62DE-471A-91DD-B9E01AFE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D82-B57C-44DD-AE35-301D30E2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74A-A320-43C6-85A3-B49F416B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757-8A0F-4989-AAD0-FCFC9B6E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9B0-006B-443B-9243-E150C06C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BB3-3380-40DC-8CC4-E830F096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DF5-F7C2-4332-BFF4-6DA71C78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E65F-0DC1-44BC-A09E-978F011E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0CC4-5AEA-4F3B-B36C-91FA44BB13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Long, O Lord?”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John’s Epistl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3 ,Lesson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ohn 1:1-1 John 2: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0-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ellowship with Go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is the propitiation for our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 o Know Him Is To Do His Commandmen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ruly know God we must devote our lives to follow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claim to know him but you do not follow his Word, the truth is not in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bide by the word is to be like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not serve God and hate your br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o Know Him Is To Do His Commandmen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ate your brother is to put a space between you and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hates his brother is in dar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is World Is Not Our Hom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love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not love the world and God the 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things that are of the world; the lust of the flesh, the lust of the eyes, and the pride of life are not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and the things in it will perish , but if you stay with God you will abide fo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ackground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.D. 70-100 , there is very little inspired history 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only know for sure what happened to one of the apostles, James the brother of Joh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ought that Jude (the Bishop of Edessa and commonly called Thaddeus , was stabbed by a 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lso believed that Andrew was bound to a cr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, that Philip was sto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secution that faced the Christian of this time period were no longer from Jews but mainly from th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arted with the reign of 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s were burned , tortured , beaten , crucified , and impriso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intensify during the reign of some rulers and then slack off in the time of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quakes,famines,plauges,and any other disruption was blamed on the Christians particularly because they would not worship ancient g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combs were underground burial places particularly found in Rome that Christians used mainly to bury their dead , but also to hide and often w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ristians likely worshipped underground in times when persecution was particularly sev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tal length of the catacombs is 590 m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, during this time periods there were many false doctrines aside from the Judaizing teachers that had always been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most prominent being Gnos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nosticis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imed that there was a knowledge far above that of The Bible and what a common man could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, that one could lead a sinless life and that even if one did sin it would not spoil his inner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aught that Jesus was a normal man when he was born and when he died , but during his life he became de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lowship With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Know Him Is To Do His Command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rld Is Not Our Ho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Wor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was from the begi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been given to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e are bringing the word t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ay we can all share the gift of fellowsh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ellowship With Go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the light of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ry to live without God in our lives is to deceive our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if we walk with him we have fellowship with all Christ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ave sin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, if we confess our sins he will forgiv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20:49:06Z</dcterms:created>
  <dc:creator>Tab L. Vines</dc:creator>
  <dc:description/>
  <dc:language>en-US</dc:language>
  <cp:lastModifiedBy>Tab L. Vines</cp:lastModifiedBy>
  <dcterms:modified xsi:type="dcterms:W3CDTF">2007-05-30T23:33:23Z</dcterms:modified>
  <cp:revision>4</cp:revision>
  <dc:subject/>
  <dc:title>“How Long, O Lord?”  John’s Epistles</dc:title>
</cp:coreProperties>
</file>