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4C9-461C-4F62-80C9-57E023AD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EFA3-DA03-49AE-A962-F3B881C0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362D-9D32-4F6F-A455-D2726094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CC88-74D5-42E6-8AE7-A726AB6A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6016-BEDC-4A4D-8FE7-59A99EA1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67BC-F915-4D3C-9225-0173CA01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3C27-8145-44A7-8347-744F35B9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361E-6E64-4969-B043-88513403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55FE-3FF9-47CD-9C11-6C3F7D2F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484F-D665-4928-BDFE-7CCB4BDE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54D4-8C18-4458-BFB5-0FF360FC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A58-EA08-4385-81BD-311831F1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C69C-A9A0-4E45-A674-AE7909F0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B1DE-E221-4417-9DB8-D66D43CB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EE2C-FD82-4156-A502-8011135C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F808-7FA5-41EF-8D83-B3DFBA03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E2F1-61DA-4612-86AA-2C588145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099-1EB0-46BD-997C-AD08C31E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D5F-C95D-4F1B-8F68-066B44C4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25C6-61E6-4174-BE68-1CFE5794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560-9EEF-4E9B-B1E6-F7025182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A77-8952-421F-ABE9-242C17D1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F64-E4A9-41BF-AE5D-E28D04FA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D48-6139-4F30-805A-6CBD6E06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BFEC-AECF-4044-B2C6-EAB80CAFC6A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B255-7B67-43DE-BDC7-54A321ADDFB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Epistle of Ju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son 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85-8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ckground of Ju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y similar to     II Peter 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writing was before Jud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mes and Jesus’ broth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hing else is known about Ju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critics say Jude didn’t really write Ju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ude was written to correct wrong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rses 1-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ude- bondservant of Jesus Chri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ter written to those who are called and sanctified by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d for the fai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ertain members of the church are perverting the gosp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the unbelieving Israeli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rses 6-1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the angels who left their proper place and were banished to He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Sodom and Gomorrah, who gave themselves up to sins of the fles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ch people defile the flesh , reject authority , and speak evil of dignita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en the archangel Michael left judgement to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rses 6-1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people are brutes and speak evil of things they do not understan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rses 11-1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e to these who have gone the way of Ca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people are hindrances to y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och prophesied about these people being brought to judg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rses 16-2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people are grumblers and come to stir up trouble to their own advant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, you were told these people would co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cause divis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ild yourself up against them on faith and with pray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erses 21-2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eep yourselves in the love of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to him for mer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ve the glory to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3:04:41Z</dcterms:created>
  <dc:creator>Jarrod S. Vines</dc:creator>
  <dc:description/>
  <dc:language>en-US</dc:language>
  <cp:lastModifiedBy>Tab L. Vines</cp:lastModifiedBy>
  <dcterms:modified xsi:type="dcterms:W3CDTF">2007-05-27T13:20:54Z</dcterms:modified>
  <cp:revision>5</cp:revision>
  <dc:subject/>
  <dc:title>The Epistle of Jude</dc:title>
</cp:coreProperties>
</file>